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3442-14ED-4D5C-8410-849E2187B3F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D7C59-8BBD-4EFB-860B-9B1074676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25987-8B99-46D1-A13C-962DE5DD4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99B8C-F3F1-45B0-873B-3E3EF03E43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68B11-653F-4E7A-B5F5-2BA90761A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91E2B-6B42-458E-A5DD-6D574EE46E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697C1-65B9-4344-B5D8-89FF189F06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FC9CA-BC96-4F0B-A30A-DA4351E6D4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542BB-03E7-4668-A9E5-5BDE06E80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26D804-3262-45D2-A7E0-4D247FFD4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73A0FB-CFC7-42B9-9C02-495765B2B3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E21FF3-E9E9-4323-BA4D-87720DCFD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17A6E8-0B98-4AFD-B93B-42D55442C3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4556B-903F-4595-9785-E8DE52FBA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B61930-E687-4CC7-97D6-F678A13F8C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899CF1-D5AC-4EAA-8F4F-17C4558F9B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B9ECAE-7541-415E-B1D7-C7D7082F63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63789A-99AE-444D-B6C3-228FA440E6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CEDB7C-24DA-4978-BAEF-BBF35ADF6F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4F07A1-5FDC-4E77-BF16-B690AC527E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8E9F44-C5DB-4200-9A1F-41B2D2F855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11E378-2C4E-4865-82FD-614C4775A9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81BA26-C2E6-463A-971F-6378E0441C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3ED73A-ADD4-4688-9E4A-BC7D7579F0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EB703-836F-42F1-AC89-1EEE73251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8EDC22-8BFE-4A40-B91C-C8891CAA57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2BAE2-6F1A-46EC-B909-5FD9EC618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BD23B-9290-470D-9573-C5830F63F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1C3F6-9902-4EEF-993B-A06590D7B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69C9D-C7D9-48B3-9E19-4DE34CD50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68378-9A09-4760-AB91-8EF63671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7146B-6C33-46FD-81C5-EB781B368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202AE-F601-44E5-BE1F-513AFE55D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8CA0-20B7-4F4F-BE16-364338F0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9966-3CA6-476D-BDA0-262CC8EF7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680DF-13E6-41C4-A1C4-BECDC00C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B8411-3F1C-4E93-9066-31DE4F8A7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43956-26D3-4772-AA6B-4811177C3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E2095-301E-4CA5-90F7-6B88E81DB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5B2740-CC5C-419F-B5AA-CD36383462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E0D09-6CCA-445D-9BB5-A440D0B1B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C2AEE-F2AC-489D-8F9E-2F12EF821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224DB-2567-4A81-88CB-6FCCED2C5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C0958-A778-4341-9909-39EA124EB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0EDA-A372-454D-9BBA-10796EE34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F1A69-6E6A-4C5C-86CB-64B67763A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7E886-3E29-4E31-8142-9548C5737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F2044-A6C7-42BE-A35D-4AE2AC0CF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0432E-EC52-4960-BA86-84381B17E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FEF26-D085-4867-91D2-53ABAA58A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6BA19-858E-4DDD-AAD7-F28139EF61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8A4D01-65FD-4268-9357-9F8559828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33D3C9-C8CB-4386-BFEF-568D0B2B1C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26BD2-AFAE-429A-9EDC-0B3E465EF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C93B0-7134-436A-8831-A24A79E1D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4B96-4CF9-4BF1-A02E-68D7CDC51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6A67F-A693-41A4-A3CB-146217842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A41C7-B5C8-467A-8B01-A0BB9BBB3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E549B7-FDBE-4156-A1C8-5C2084A3F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B074F-C7A6-44BB-9164-9DC2D1008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BF916-83F3-43DB-BEB6-323FD1966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74AA3-8BE2-4B13-9B69-F3292B677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57B960-777E-4B1C-9D2A-7E0CCB578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28DD43-A1B2-4A2B-B1C4-D25DD047EB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B20FC1-E675-40B5-AE0F-10125E1357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44302-9BC4-451B-A654-83718C9E78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B102E-E088-49A0-AB68-CB04E4B82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7B3A5-8DE5-47BB-B88E-28149E35A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2DE08-72C6-4760-9A38-25EBFBC00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7B790-878E-45E6-BD51-A5ECE17C6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04A6D-E01D-468F-A801-AC79A3EF6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5CDC1-1191-4526-8717-DDCB06A2D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03CDB-2B3F-4467-A523-A5A554EDC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0C6B4-5F1B-42B9-8F6D-63281CA1D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1B149-1E51-4EEB-99BC-B18D48448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A8DB6-EF85-4613-AB02-6607A359B9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46C049-9138-4865-958A-1DA571BA7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3BEE6-DC6B-4193-B11C-4A6E2944A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E3CF9-AE6D-4A81-B090-C1ABE95EDA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793AF4-3124-41EA-B87A-DAF963AE5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80C588-6720-4B10-8565-CD939AF9F9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F4C86E-8316-4849-922C-8C88F39347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0EC5C-DA78-4CC4-99B0-70E6E7C31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7A364-A3CA-4BE3-8BDF-ED64F4FEB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4FB900-005A-44F3-99BE-762E4A3D4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A0079-09C3-4E63-AC31-90B61EB1D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CEBDFB-F206-4F64-8413-33580196A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7BEDF-B04F-4C71-95D5-375ABD2AD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0C57-43EB-4BEE-907B-AD84425DE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07977-6B16-4A3C-8CC5-D080F5CCBF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2787CE-8180-4FAA-B432-47204DC9C6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611D6F-B74A-48A2-A561-C840D465A1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C90ACC-1967-4B2A-8BE1-E38D4F9F03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EFA32-7B7B-45C7-A754-CEA6EA2C0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BA1FD-CEA9-43F2-B222-B5C9E9E49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31DB11-173A-4B08-8124-DA85E51AE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F8FB8-6651-4D39-85D2-0BFE9B3848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D8F29-ADDC-4F52-ADCA-37B8E0A48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D6224-CDAE-4B6A-B4A1-325D21D04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E29E-B80D-4C6B-9AB6-FAD5D0DC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2A2DB-B8E9-497A-8BFA-132091AFC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5C63D1-A342-489A-8094-61B96B85A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181E58-0404-4C6B-9B64-AE94D9F198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33A6B-4555-4539-8C5E-A1F06168C3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216A53-B310-439B-B939-F4B0E6EE20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59B315-40B8-4BB8-A514-1ADD007443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CAF939-55A4-4F6D-ADF1-E4982CBDF7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F6B2B-FBD6-4B03-91CC-72C5C5AA9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A24B8-6083-401C-9837-D07B1B562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98D0D-AD1B-4404-B62B-5E5429D2B9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2601-93B4-4AA0-AD15-3CE9882DA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575E8A-B665-4632-9C39-0DE9F8D7C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95640-D953-4C3A-BD91-7DDB8E86D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52F255-229F-451A-9392-CDCF988E7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6B2F8-FCB5-4897-8C54-C19E7BFD6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EA3F54-4942-4D51-AEFC-05FC1AFEB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4C94A1-10D3-493E-9618-25D76268ED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5C5B94-1931-4DE0-8CF4-41BC869EFC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179B80-E87B-4BC9-A6B5-024309D122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5DF3C8-593A-4B08-8C03-FBA6F083A7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22693-35FC-419F-A18B-A474DB4F94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C464-97F7-4918-B6DB-E4F3A0045031}" type="datetime">
              <a:rPr b="0" lang="it-IT" sz="1200" spc="-1" strike="noStrike">
                <a:solidFill>
                  <a:srgbClr val="0d0d0d"/>
                </a:solidFill>
                <a:latin typeface="Bell MT"/>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9FAA-DCCC-4374-9A6C-E56718B4AE94}"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3F70-C8A2-4B16-8AA7-ED30D0EA60EF}" type="datetime">
              <a:rPr b="0" lang="it-IT" sz="2400" spc="-1" strike="noStrike">
                <a:solidFill>
                  <a:srgbClr val="ffffff"/>
                </a:solidFill>
                <a:latin typeface="Bell MT"/>
              </a:rPr>
              <a:t>29/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4330-02E2-480E-8FF4-A9E60FBC1332}"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64A2-159C-40A0-8802-4DAE4D8E75F5}"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4D3A-12E6-4416-BAB1-222F72A014A7}"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5279-C8E0-4363-B689-74F1A5B839E4}"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0487-BFC1-487C-8B24-705EDE8399E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62C1-15C4-43EF-90B3-E7AB840AF364}"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90DC-DF1B-40F7-A74F-6F2FF87AD4FE}"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6D6C-7DCA-4E4D-9A36-FA52CDAC7BD2}" type="datetime">
              <a:rPr b="0" lang="it-IT" sz="1200" spc="-1" strike="noStrike">
                <a:solidFill>
                  <a:srgbClr val="ffffff"/>
                </a:solidFill>
                <a:latin typeface="Bell MT"/>
              </a:rPr>
              <a:t>29/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D569-EE2E-4CCA-A8BD-B9F9329FA8D2}"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DC08-FB1B-4D7F-8643-095BC41E2121}"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874B-EC27-4C01-9E34-310100F6882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55E4-0BE8-4B6A-8F40-7417FA7DE322}"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FA27-F43F-4F28-B10D-31A5904E4A3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D7F2-FD95-4378-AC75-ED8E67B91B3B}"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F0DC-F873-41B6-AF59-2F313F5EF0D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7F06-370D-4F6A-A02A-D54D1D2D798E}" type="datetime">
              <a:rPr b="0" lang="it-IT" sz="2400" spc="-1" strike="noStrike">
                <a:solidFill>
                  <a:srgbClr val="0d0d0d"/>
                </a:solidFill>
                <a:latin typeface="Bell MT"/>
              </a:rPr>
              <a:t>29/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7693-F74E-4399-8D39-BCB9B00B6F1B}"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